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05E-18B0-4940-A84A-F65B9D79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F67-3AB2-469B-B672-B007A804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EF7-03E9-4AA2-A3CD-D7EA48EA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F3A-B381-4B97-8495-8CBF0CEB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1FF8-17C3-455E-87B1-2E4C4B0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0961-0856-4646-9AFB-71D5517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04F3-7DF1-43C1-B56F-AB32D3F4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3743-C9C1-47A7-9427-9ED90D30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3466-2EC3-4613-9CB4-C1462EC9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E6ED-A6D3-4F5E-983C-2D91C10B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7C98-46E3-449C-AB41-206E6D99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00C-F9A5-4F79-8A63-8AC43D7D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9F8C-B669-480E-93E9-74587E44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035D-FC35-459B-99C0-5EC35879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C25F-0D9F-4EAE-A650-8EA5365B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2922-83D9-437F-BB9B-A38830FD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3438-95E8-4B99-8869-B74D4833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1AC-2E0F-47A0-A1F3-AA2405A6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BBE-A293-48E7-A046-EEB5AF14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B2D-FC98-44AC-8B39-8237EA6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429-5355-43E4-9CC1-9BFCEC9A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E7A-08EF-4F1E-8218-8A7E4DA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FE3-6C18-4FC7-A933-F6AA0CF2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8ED-044B-46C4-AF34-A0D7B281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5C40-7445-4DF8-8F09-AD33023A0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D60A-6894-432C-A8ED-67F76A5E7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!</a:t>
            </a:r>
            <a:br>
              <a:rPr sz="76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954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Mr. Fu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489240" cy="1067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48440" y="1676520"/>
            <a:ext cx="2095560" cy="1047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57200" y="2290680"/>
            <a:ext cx="7848720" cy="4567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-152280" y="3124080"/>
            <a:ext cx="9144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73152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4038480" y="3809880"/>
            <a:ext cx="3581640" cy="210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ase No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are usually a hint to you will see on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often contain test questions or diagrams that you will most likely come across during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get a good grade in class is to complete note summaries and bellwork!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Labs and Activit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and Activities are worth 2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notes, we will usually spend between 30 and 40 minutes on a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or Activities are due either the day they are assigned or the day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take lab safety very seri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goofing around in lab will receive a zero on the assignment for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abusing school property and lab materials will also receive a zero on the assignment for that da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bsent for a lab, come see about a makeup assig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should always be written in comple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 Write-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is the purpose of this lab? Or, Why I am doing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ediction of what you expect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 (an educated guess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ke sure you always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!!!!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equipment or materials will I need to complete the la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dure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ken to achieve a desired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/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data or information did I ob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Questions and Conclu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did I learn? Did I perform the lab correctly? If not, why not? What went wrong? Each lab will have questions. Be sure every question is answered correc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ANSWER IN COMPLETE SENTENCES!!!!!!!!!!!!!!!!!!!!!!!!!!!!!!!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90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Tests and Quizz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s and Quizzes are worth 5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like your test grade? Well, you have up to 3 retakes to improve your sc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st thing you can do in this class is miss a test or quiz and not make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up a test or Retake a test you will need to visit: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tp://quizstar.4teachers.org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gister for my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ademic Integ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caught cheating, I will take the assignment from you and the work will count as a zero in my grad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ing other peoples work is a form of Plagiarism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257800" y="3514680"/>
            <a:ext cx="243828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n effort to listen and learn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ill almost always be questions that accompany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ie will often be followed by a quiz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: tests and quizzes are worth 50% of your grad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are 4 easy things you will need to do by the end of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assignment you’re working on righ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Quiz star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take onlin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Homelink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check your grade onl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ake your 1st quiz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1494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If you are absent…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lass is divided up in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in par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bs or 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sts and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ever absent and need to make up classwork, labs, or tests; please go to my class website: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ttp://wikifuller.wikispaces.com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Class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is worth 20% of your gr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consists of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nell notes, Test notes, and Bell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is due every Friday unless otherwise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Bellwork is worth 2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eks Worth of Bellwork (5 days) is worth 100 poi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can be made up online at m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el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Notes are due on the day of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Cornell Notes is worth 5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Unit we will have 3 or 4 days of no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3 days of notes is worth 150 points and 4 days of notes is worth 200 points!!!!!!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9080" y="0"/>
            <a:ext cx="1474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What side do I write the question 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estions always go on the left side and the answers always go on the righ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9938000">
            <a:off x="1445760" y="2421000"/>
            <a:ext cx="68580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0"/>
                            </p:stCondLst>
                            <p:childTnLst>
                              <p:par>
                                <p:cTn id="1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7432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0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54864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19051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219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Quick write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are a dail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question worth 5 point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That you answer in 1-2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Sentences. Quickwri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designed to g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you thinking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4290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Main Section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of yo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notes are worth 20 poi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8006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Summarie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wor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20 points.  Summa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ontain diagram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importan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which may be on the test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notes that you can use on the test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complete their test notes usually receive an A or B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will be passed out 1-2 days before the test and they are to be completed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due on the day of the test along with Cornel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42:41Z</dcterms:created>
  <dc:creator>jfuller</dc:creator>
  <dc:description/>
  <dc:language>en-US</dc:language>
  <cp:lastModifiedBy>jfuller</cp:lastModifiedBy>
  <dcterms:modified xsi:type="dcterms:W3CDTF">2012-08-13T16:15:56Z</dcterms:modified>
  <cp:revision>11</cp:revision>
  <dc:subject/>
  <dc:title>Slide 1</dc:title>
</cp:coreProperties>
</file>